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463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367281-2C67-4482-AA88-782238847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1598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333512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333512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87320"/>
            <a:ext cx="9131400" cy="1049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31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3320" y="60480"/>
            <a:ext cx="89089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" y="903240"/>
            <a:ext cx="8943840" cy="9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landscape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scap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panels in portrait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