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582624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880" y="5506200"/>
            <a:ext cx="582624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880" y="550620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1360" y="550620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86160" y="263952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6080" y="263952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880" y="550620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86160" y="550620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456080" y="550620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5880" y="2639520"/>
            <a:ext cx="5826240" cy="54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582624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284292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1360" y="2639520"/>
            <a:ext cx="284292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5880" y="812520"/>
            <a:ext cx="58262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1360" y="2639520"/>
            <a:ext cx="284292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5880" y="550620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284292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1360" y="550620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880" y="5506200"/>
            <a:ext cx="582624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3240"/>
            <a:ext cx="6851520" cy="9137520"/>
          </a:xfrm>
          <a:prstGeom prst="rect">
            <a:avLst/>
          </a:prstGeom>
          <a:solidFill>
            <a:srgbClr val="cecece"/>
          </a:solidFill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5880" y="2639520"/>
            <a:ext cx="582624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3360" indent="-333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635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6640" indent="-2206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2680" indent="-2239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21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21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21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925560" y="6170760"/>
            <a:ext cx="709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y h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72080" y="6411960"/>
            <a:ext cx="7909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622520" y="6170760"/>
            <a:ext cx="709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19480" y="6170760"/>
            <a:ext cx="709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080" y="6170760"/>
            <a:ext cx="709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2720" y="6170760"/>
            <a:ext cx="709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y h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49680" y="6170760"/>
            <a:ext cx="709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46640" y="6170760"/>
            <a:ext cx="709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6170760"/>
            <a:ext cx="709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asy/r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6280" y="664524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62080" y="664524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8680" y="664524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58680" y="635472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73240" y="664524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59040" y="664524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55640" y="664524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55640" y="635472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0200" y="664524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5640" y="664524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52600" y="664524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52600" y="635472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39800" y="66452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27040" y="66452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24000" y="66452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560" y="635472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76440" y="66452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1880" y="66452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8840" y="66452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635472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3400" y="66452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58840" y="66452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55800" y="66452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83160" y="635472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70360" y="66452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57600" y="66452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52760" y="66452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80120" y="635472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66960" y="66452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4200" y="66452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51160" y="66452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77080" y="635472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9240" y="5972040"/>
            <a:ext cx="24368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inuous training (hours per week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5972040"/>
            <a:ext cx="22114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val training (hours per week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6480" y="6854760"/>
            <a:ext cx="595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yc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6880" y="7300800"/>
            <a:ext cx="6354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80960" y="71010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66760" y="71010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63720" y="71010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63720" y="681048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77920" y="71010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63720" y="71010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60320" y="71010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60680" y="681048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4880" y="71010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60680" y="71010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57280" y="71010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57280" y="681048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44480" y="71010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31720" y="71010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28680" y="71010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4240" y="681048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1120" y="71010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6920" y="71010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63520" y="71010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90880" y="681048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78080" y="71010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3880" y="71010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480" y="71010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681048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75040" y="71010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62280" y="71010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440" y="71010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84800" y="681048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72000" y="71010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9240" y="71010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55840" y="71010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81760" y="681048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86000" y="75564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1440" y="75564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68400" y="75564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68400" y="726588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82600" y="75564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68400" y="75564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65360" y="75564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65360" y="726588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9560" y="75564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65360" y="75564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1960" y="755640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726588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49160" y="75564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36400" y="75564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33360" y="75564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726588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5800" y="75564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71600" y="75564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68200" y="75564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95560" y="726588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82760" y="75564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68560" y="75564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65160" y="75564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92520" y="726588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79720" y="75564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66960" y="75564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62120" y="75564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89480" y="726588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6680" y="75564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63920" y="75564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60880" y="755640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86440" y="726588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86280" y="6330960"/>
            <a:ext cx="5247360" cy="1207440"/>
            <a:chOff x="1286280" y="6330960"/>
            <a:chExt cx="5247360" cy="1207440"/>
          </a:xfrm>
        </p:grpSpPr>
        <p:sp>
          <p:nvSpPr>
            <p:cNvPr id="149" name=""/>
            <p:cNvSpPr/>
            <p:nvPr/>
          </p:nvSpPr>
          <p:spPr>
            <a:xfrm>
              <a:off x="1286280" y="633096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3240" y="633096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80200" y="633096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77160" y="633096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13800" y="633096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10760" y="633096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07720" y="633096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04680" y="633096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1320" y="678672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88280" y="678672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84880" y="678672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1840" y="678672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18480" y="678672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15440" y="678672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12400" y="678672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09360" y="678672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6000" y="724212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92960" y="724212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89920" y="724212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86520" y="724212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23160" y="724212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20120" y="724212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17080" y="724212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14040" y="724212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39536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7936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9232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7632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8928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7328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8624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024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2288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0688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1984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0384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1644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0080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1340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97760" y="64040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9716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440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9700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8136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9396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7796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092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2756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1156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452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852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2148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0548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1844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02440" y="685944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0508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908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0168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8604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8300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560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960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3224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1624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1320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2616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1016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2312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07120" y="731520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840" y="552600"/>
            <a:ext cx="6435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re’s been a round of major competitions lately (e.g. African and South African Championships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e want to find out about your training in the 4 weeks leading up to the first competi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84800" y="210960"/>
            <a:ext cx="42696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94320" y="52704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05480" y="26028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84800" y="52704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77240" y="46080"/>
            <a:ext cx="482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ath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071720"/>
            <a:ext cx="4316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08360" y="137016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26000" y="112068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04960" y="137016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400" y="1477800"/>
            <a:ext cx="55062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w, let’s examine your training in the month before that first competiti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. Did anything prevent you from training the way you would normally train (e.g. injury, flu)?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840" y="990720"/>
            <a:ext cx="33433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 marL="165240" indent="-165240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. How many weeks before the the S.A. Championships was the first of these major competitions for you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48840" y="2139840"/>
            <a:ext cx="19094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f YES, what was the proble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840" y="2612880"/>
            <a:ext cx="636732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 marL="165240" indent="-165240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rite down the training hours per week you were doing in the first week of that month (that is, 28-21 days before the first competition). Count warm-ups and cool-downs as easy sessions. For interval training, keep the work periods separate from the recovery (easy/rest) periods. Convert minutes to hours as follows: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 min = 0.2,   20 min = 0.3,   30 min = 0.5,   40 min = 0.7,   50 min = 0.8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95400" y="1925640"/>
            <a:ext cx="162000" cy="154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6680" y="1874880"/>
            <a:ext cx="7772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ck:    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5400" y="2190600"/>
            <a:ext cx="162000" cy="154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5480" y="2139840"/>
            <a:ext cx="3870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35520" y="2340000"/>
            <a:ext cx="55335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lease tell us about the training you would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normall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have done if you didn’t have this proble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17960" y="2090880"/>
            <a:ext cx="3510000" cy="26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840" y="7758000"/>
            <a:ext cx="67849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nally, some personal detail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4840" y="8005680"/>
            <a:ext cx="4330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9320" y="830412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919191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4480" y="830412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919191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7000" y="8085240"/>
            <a:ext cx="4024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74840" y="8637480"/>
            <a:ext cx="43344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52320" y="89330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48920" y="89330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7600" y="8610480"/>
            <a:ext cx="11430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iathlon PB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00-m sw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06480" y="8637480"/>
            <a:ext cx="43344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5760" y="89330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80920" y="89330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6320" y="8648640"/>
            <a:ext cx="228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41160" y="8456760"/>
            <a:ext cx="529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n:s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05040" y="8637480"/>
            <a:ext cx="43344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67800" y="8610480"/>
            <a:ext cx="11430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iathlon PB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-km r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7040" y="8637480"/>
            <a:ext cx="43344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6880" y="8648640"/>
            <a:ext cx="228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71720" y="8456760"/>
            <a:ext cx="529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n:s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95920" y="8637480"/>
            <a:ext cx="43344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58680" y="8626320"/>
            <a:ext cx="11430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iathlon PB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-km ru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27920" y="8637480"/>
            <a:ext cx="4330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08040" y="8648640"/>
            <a:ext cx="228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2600" y="8456760"/>
            <a:ext cx="529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n:s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05480" y="8012160"/>
            <a:ext cx="43164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080" y="830412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919191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00440" y="830412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919191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51200" y="7924680"/>
            <a:ext cx="8780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ears as 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etitive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tri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hle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2520" y="89330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80920" y="89330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14520" y="89330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11120" y="89330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73400" y="89330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70360" y="89330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05040" y="89330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02000" y="893304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6760" y="8008920"/>
            <a:ext cx="43344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62480" y="7924680"/>
            <a:ext cx="8780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ears as 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etitiv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hle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09920" y="8305920"/>
            <a:ext cx="2818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800" spc="-1" strike="noStrike">
                <a:solidFill>
                  <a:srgbClr val="919191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00360" y="8305920"/>
            <a:ext cx="2818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800" spc="-1" strike="noStrike">
                <a:solidFill>
                  <a:srgbClr val="919191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840" y="5219640"/>
            <a:ext cx="31608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This diagram shows the 4 weeks before the first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mpetition. Circle the hardest training wee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03560" y="5425920"/>
            <a:ext cx="149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6880" y="5288040"/>
            <a:ext cx="26064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54280" y="5288040"/>
            <a:ext cx="26064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03840" y="5288040"/>
            <a:ext cx="26064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51240" y="5288040"/>
            <a:ext cx="26064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840" y="5715000"/>
            <a:ext cx="64357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. What training did you do in that week? (Skip this question if you circled Week 4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80120" y="1073160"/>
            <a:ext cx="428760" cy="324000"/>
          </a:xfrm>
          <a:prstGeom prst="rect">
            <a:avLst/>
          </a:prstGeom>
          <a:solidFill>
            <a:srgbClr val="eaea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70400" y="137016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92880" y="112248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78480" y="137016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41880" y="793800"/>
            <a:ext cx="698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leave blank</a:t>
            </a:r>
            <a:br>
              <a:rPr sz="700"/>
            </a:b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Q2  Q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320" y="112680"/>
            <a:ext cx="6076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OUR RECENT TRIATHLON TRAI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9920" y="466560"/>
            <a:ext cx="583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75680" y="8045280"/>
            <a:ext cx="573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ight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k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49480" y="830088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34920" y="830088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31880" y="830088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31880" y="801036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065320" y="805968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66720" y="8045280"/>
            <a:ext cx="550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ight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c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21080" y="830088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06520" y="830088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03480" y="830088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03480" y="801036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25560" y="3529080"/>
            <a:ext cx="709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y h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2080" y="3770280"/>
            <a:ext cx="7909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22520" y="3529080"/>
            <a:ext cx="709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19480" y="3529080"/>
            <a:ext cx="709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16080" y="3529080"/>
            <a:ext cx="709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2720" y="3529080"/>
            <a:ext cx="709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y h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49680" y="3529080"/>
            <a:ext cx="709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46640" y="3529080"/>
            <a:ext cx="709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0" y="3529080"/>
            <a:ext cx="709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asy/r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6280" y="400356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62080" y="400356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58680" y="400356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58680" y="371304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73240" y="400356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59040" y="400356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55640" y="400356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55640" y="371304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70200" y="400356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55640" y="400356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352600" y="400356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52600" y="371304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39800" y="400356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27040" y="400356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24000" y="400356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49560" y="371304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76440" y="400356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61880" y="400356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8840" y="400356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371304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73400" y="400356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758840" y="400356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55800" y="400356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83160" y="371304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70360" y="400356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57600" y="400356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252760" y="400356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80120" y="371304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66960" y="400356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4200" y="400356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51160" y="400356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977080" y="371304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19240" y="3330720"/>
            <a:ext cx="24368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inuous training (hours per week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140360" y="3330720"/>
            <a:ext cx="22114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val training (hours per week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6480" y="4213080"/>
            <a:ext cx="595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yc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6880" y="4659480"/>
            <a:ext cx="6354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80960" y="445932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66760" y="445932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63720" y="445932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63720" y="416880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77920" y="445932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63720" y="445932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60320" y="445932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60680" y="416880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74880" y="445932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60680" y="445932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57280" y="445932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57280" y="416880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44480" y="445932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31720" y="445932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28680" y="445932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54240" y="416880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81120" y="445932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066920" y="445932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63520" y="445932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90880" y="416880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78080" y="445932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763880" y="445932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60480" y="445932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87840" y="416880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675040" y="445932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62280" y="445932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57440" y="445932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84800" y="416880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72000" y="445932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159240" y="445932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55840" y="445932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81760" y="416880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386000" y="491508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71440" y="491508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68400" y="491508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68400" y="462456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82600" y="491508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68400" y="491508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665360" y="491508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65360" y="462456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779560" y="491508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65360" y="491508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61960" y="4915080"/>
            <a:ext cx="232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362320" y="462456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49160" y="491508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36400" y="491508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33360" y="491508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59280" y="4624560"/>
            <a:ext cx="649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85800" y="491508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071600" y="491508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68200" y="491508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95560" y="462456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82760" y="491508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68560" y="491508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65160" y="491508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92520" y="462456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679720" y="491508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466960" y="491508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62120" y="491508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89480" y="462456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76680" y="491508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63920" y="491508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60880" y="4915080"/>
            <a:ext cx="28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86440" y="4624560"/>
            <a:ext cx="64944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286280" y="3689280"/>
            <a:ext cx="5247360" cy="1207440"/>
            <a:chOff x="1286280" y="3689280"/>
            <a:chExt cx="5247360" cy="1207440"/>
          </a:xfrm>
        </p:grpSpPr>
        <p:sp>
          <p:nvSpPr>
            <p:cNvPr id="416" name=""/>
            <p:cNvSpPr/>
            <p:nvPr/>
          </p:nvSpPr>
          <p:spPr>
            <a:xfrm>
              <a:off x="1286280" y="368928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3240" y="368928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80200" y="368928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77160" y="368928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13800" y="368928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10760" y="368928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07720" y="368928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04680" y="368928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91320" y="414504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88280" y="414504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84880" y="414504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1840" y="414504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18480" y="414504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15440" y="414504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12400" y="414504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09360" y="414504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96000" y="460044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92960" y="460044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89920" y="460044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86520" y="460044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23160" y="460044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20120" y="460044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17080" y="460044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14040" y="4600440"/>
              <a:ext cx="219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139536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7936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09232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87632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8928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7328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48624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7024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2288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10688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01984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80384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1644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50080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41340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197760" y="376236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9716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18440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09700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8136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9396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7796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9092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7492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2756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11156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2452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0852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2148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50548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1844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202440" y="4218120"/>
            <a:ext cx="0" cy="2314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0508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18908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0168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604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79864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8300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9560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7960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33224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2920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1320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2616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1016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42312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07120" y="467352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61280" y="7981920"/>
            <a:ext cx="219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5160" y="805500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595520" y="868680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027160" y="868680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825720" y="868680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257720" y="868680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916600" y="868680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348240" y="868680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826160" y="806148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337440" y="8058240"/>
            <a:ext cx="0" cy="2300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52560" y="805968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40160" y="805968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24160" y="8059680"/>
            <a:ext cx="0" cy="231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8T16:55:53Z</dcterms:created>
  <dc:creator>Department of Physiology</dc:creator>
  <dc:description/>
  <cp:keywords/>
  <dc:language>en-US</dc:language>
  <cp:lastModifiedBy>Reviewer</cp:lastModifiedBy>
  <cp:lastPrinted>1998-10-10T09:25:39Z</cp:lastPrinted>
  <dcterms:modified xsi:type="dcterms:W3CDTF">2007-11-05T18:48:04Z</dcterms:modified>
  <cp:revision>1</cp:revision>
  <dc:subject/>
  <dc:title>No Slide Title</dc:title>
</cp:coreProperties>
</file>